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5BC46-4260-4763-A2DF-C0A9BFC9DE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9ACD-EA36-48CF-86D6-09E1D7DA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F8CF-F291-4773-8E1C-A683413F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4C31-7692-435A-8272-4EC4B6547E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FD207-56CB-4F17-B4B9-B3F667B4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6B2B-FCAD-4549-85C1-EBA1D869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5480-081F-489B-A20F-4C29B347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F072-C207-4799-BE3A-4E070527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AEFA-FC2E-4326-BB25-40C014A7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72BE-ACC4-4A05-B7B8-7B8F1F66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6FA2-304D-4049-A529-6B074444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12D6-70D4-4611-9ACC-977BDCBB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217A-4865-454E-A1D0-1C6597619F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五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恶性肿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84720" y="5589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陈慧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气管造口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康复环境 ；② 避免刺激性食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功能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非言语交流；②食管言语；③电子喉；④喉再造术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活动功能训练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局部低中频电疗、按摩、主动运动、抗阻运动。②必要时用吊带牵拉或进行矫形手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放在关节活动那"/>
          <p:cNvPicPr/>
          <p:nvPr/>
        </p:nvPicPr>
        <p:blipFill>
          <a:blip r:embed="rId1"/>
          <a:stretch/>
        </p:blipFill>
        <p:spPr>
          <a:xfrm>
            <a:off x="4788000" y="1413000"/>
            <a:ext cx="385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体康复：术后患者可穿高领衣服适当掩盖颈前造口。肩下垂者可穿垫肩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避免说话过多。②劳逸结合。③禁止游泳。④预防感冒等呼吸道疾病的发生。⑤合理饮食，进食稠糊状食品，防止误咽。多吃新鲜水果、蔬菜，预防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技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：①深呼吸；   ②腹式呼吸；③辅助呼吸活动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放呼吸训练那"/>
          <p:cNvPicPr/>
          <p:nvPr/>
        </p:nvPicPr>
        <p:blipFill>
          <a:blip r:embed="rId1"/>
          <a:stretch/>
        </p:blipFill>
        <p:spPr>
          <a:xfrm>
            <a:off x="4788000" y="1700280"/>
            <a:ext cx="3960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与全身运动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术后卧床期间经常伸屈下肢，防止下肢静脉血栓形成。②尽早下地活动，做呼吸操与全身体操，并进行步行、登楼梯等活动，以加大肺通气量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戒烟； ②练习缓慢、均匀的腹式呼吸； ③指出锻炼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610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教育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身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避免不良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职业性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娱乐康复治疗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广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包括肿瘤的根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狭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肿瘤所导致的原发性或继发性残疾，通过医学、教育、心理、职业等综合性手段，使肿瘤致残者尽可能改善或恢复功能，提高生活和生存质量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护理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躯体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疼痛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ancerous pain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原因及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活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心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患者从疑诊、确诊到治疗前后都可能发生剧烈心理变化和心理反应，出现震惊、恐惧、否认、淡漠、抑郁、焦虑、悲伤等情绪。异常心理状态的出现多源于对疾病和治疗不了解及思想准备不足，产生了许多疑问，顾虑重重，使患者不能正确对待疾病，不能适应病后的现实，以致不能配合进行临床治疗和康复治疗，甚至因绝望而拒绝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恶性肿瘤患者心理评定的原则和方法与一般心理评定相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躯体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本身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原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继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化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手术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放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癌症疼痛的原因及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压迫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浸润致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损伤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3789360"/>
          <a:ext cx="6481800" cy="2311560"/>
        </p:xfrm>
        <a:graphic>
          <a:graphicData uri="http://schemas.openxmlformats.org/drawingml/2006/table">
            <a:tbl>
              <a:tblPr/>
              <a:tblGrid>
                <a:gridCol w="865080"/>
                <a:gridCol w="561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级别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应用镇痛药情况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痛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非麻醉性镇痛药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麻醉剂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与／或需肌内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静脉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活动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773360"/>
          <a:ext cx="8610480" cy="42973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133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计分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，无症状，无疾病的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正常生活，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能进行正常活动，症状与体征很轻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9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需特殊照顾           经努力能正常活动，有些症状与体征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8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自我照料，但不能进行正常活动或工作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工作，生活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偶需他人协助，但尚能自理多数的个人需要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不同程度协助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需他人较多的帮助，常需医疗护理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残疾需特殊照顾与协助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自理生活，       严重残疾，应住院，无死亡危险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特殊照顾，病       病重，需住院，必须给予积极的支持性治疗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情发展加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濒临死亡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0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69"/>
          <p:cNvSpPr/>
          <p:nvPr/>
        </p:nvSpPr>
        <p:spPr>
          <a:xfrm>
            <a:off x="2700360" y="1231920"/>
            <a:ext cx="396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Karnofsky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活动状况评定量表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措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一）心理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二）营养支持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三）功能障碍的康复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癌症康复治疗护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乳腺癌术后上肢水肿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喉癌根治术后的康复及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肺癌术后肺功能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乳腺癌术后上肢水肿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持功能位：可减轻肿胀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被动运动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术后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天即进行小幅度的肩关节被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护患肢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免引起患肢循环受损及感染。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康复教育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定期体格检查，发现乳房肿块及时诊治。②建立高维生素、高纤维素、低脂肪的饮食结构。③术后尽早进行患侧上肢锻炼。④保护患侧上肢免受损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7T02:23:29Z</dcterms:modified>
  <cp:revision>109</cp:revision>
  <dc:subject/>
  <dc:title>内科护理学</dc:title>
</cp:coreProperties>
</file>